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750-D648-43DA-BF11-F6052ED6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4345-6295-4334-A5EA-AAAE4B32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C7B-BBA4-4EA1-AABF-6ECE0392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D0A6-C4B1-48BB-BA9D-F79B1607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B21-3878-425C-A758-1FD8A375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69EE-23D7-454F-A742-63DE3EBE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C69-9341-435B-88B9-2EC10516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8D63-FC34-4C14-ACD6-B0760597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21C9-1B4F-4799-88E7-067F0EE9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3A45-5C84-4FCB-BA8B-744BAA58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8D46-7F24-4AB7-A1E6-E80FA2C5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2A3-E970-49DC-9CE2-E9A57721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CC7D-1929-43B2-9361-DF56F7E90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Your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greece-athens.com/gallery_images/56.jpg"/>
          <p:cNvPicPr/>
          <p:nvPr/>
        </p:nvPicPr>
        <p:blipFill>
          <a:blip r:embed="rId1"/>
          <a:srcRect l="0" t="0" r="0" b="23196"/>
          <a:stretch/>
        </p:blipFill>
        <p:spPr>
          <a:xfrm>
            <a:off x="0" y="2112840"/>
            <a:ext cx="9144000" cy="474516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2"/>
          <a:stretch/>
        </p:blipFill>
        <p:spPr>
          <a:xfrm>
            <a:off x="1432080" y="774720"/>
            <a:ext cx="46638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17:18:48Z</dcterms:modified>
  <cp:revision>89</cp:revision>
  <dc:subject/>
  <dc:title>Ancient Greece</dc:title>
</cp:coreProperties>
</file>